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10691813" cy="7559675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F5DC-8221-4DE1-B083-9DA71C59E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F02F-C267-4C20-9C49-E426E3E47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765B-9D22-4A06-9A85-0CD297235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3CFC-6FDC-4725-9924-AF7A966BC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D8362-562D-4EC9-8293-91124C9D5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368E8-B1C5-4397-AF40-BCCD40CAF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77A4F-9F3B-4DBD-8879-06FC4421A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A7E9B-AE7C-4B33-B0CD-5583A41AA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43F84-8196-4A87-A60C-B73572FB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ED7AD-CF6F-4FDD-A509-6617D3CA1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B029B-728A-4FB2-BBA1-590A2188F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85D8-F09F-410C-9CC4-31405078D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370FA-FE86-443B-8716-1C76969E8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2C56C-DF34-46EF-BE55-25529D7B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9CDE7-F2A7-4682-9CBF-BC9083F22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B5F56-1458-4D62-81D0-31EEA3AE4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7F8D3-CA9C-45A7-9AA3-50993987A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050CC-64F6-49A5-8816-EFD964DDC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49CB38-2CEF-47D0-813C-8B6765B98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EEF7FF-384F-4DBD-8485-C8EB65986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6C2AFF-FC03-4D26-9143-758D46DE4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7D786C-AB1F-4B43-83AF-7BCE5202A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BF2E-07A2-4CD6-9F14-4C1B92B04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37760-2255-483F-BD2E-43D67DEE5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A89387-EB17-4E13-B2AA-4E9402AFC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6614D6-AD20-40E3-B47D-763F832F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CBDCD-D0C8-44DF-BCB1-1035532AF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72E550-F0DD-4B5C-8E9F-AC074DED2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F561B-6951-4BDB-9586-325FE66B1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78792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041600" y="176904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34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78792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7041600" y="4059360"/>
            <a:ext cx="309816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24269-A83A-43F4-BE41-2582BE411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5E25-55E5-4AE2-8C07-CDB0A1C56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06A2-E5A0-41B0-88FE-302979C7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6883-FD89-4B0E-928E-0EF6145DE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C0C7-DBB5-41E8-8CCF-F4CF8EB5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5160" y="405936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9FC2-EBD2-40DD-9B57-45BC464B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60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5160" y="1769040"/>
            <a:ext cx="469548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600" y="4059360"/>
            <a:ext cx="9622440" cy="20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0637-779C-4E10-BCF1-F3F9A193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5E7E7-4B0C-468A-93B9-9BF561E607ED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920" y="6885000"/>
            <a:ext cx="3387600" cy="5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2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0F8B9-33EA-46E1-BBB9-9E0462F520B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rmAutofit/>
          </a:bodyPr>
          <a:p>
            <a:pPr marL="372960" indent="-372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09640" indent="-31104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2" marL="1244520" indent="-24912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3" marL="1743120" indent="-24912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4" marL="2239920" indent="-2491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5" marL="2239920" indent="-2491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6" marL="2239920" indent="-249120">
              <a:spcBef>
                <a:spcPts val="876"/>
              </a:spcBef>
              <a:buClr>
                <a:srgbClr val="000000"/>
              </a:buClr>
              <a:buFont typeface="Arial"/>
              <a:buChar char="»"/>
              <a:tabLst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34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Autofit/>
          </a:bodyPr>
          <a:lstStyle>
            <a:lvl1pPr marL="216000"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  <a:defRPr b="0" lang="ru-RU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fld id="{CE4AE4EA-05EC-4266-A49F-61D10E339BBA}" type="datetime"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652920" y="6885000"/>
            <a:ext cx="3387600" cy="5256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662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  <a:defRPr b="0" lang="ru-RU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fld id="{D4BF6C6E-221F-4226-9805-58488D35EF29}" type="slidenum"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logo.png"/>
          <p:cNvPicPr/>
          <p:nvPr/>
        </p:nvPicPr>
        <p:blipFill>
          <a:blip r:embed="rId2"/>
          <a:stretch/>
        </p:blipFill>
        <p:spPr>
          <a:xfrm>
            <a:off x="8924760" y="581040"/>
            <a:ext cx="938520" cy="6318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fon.jpg"/>
          <p:cNvPicPr/>
          <p:nvPr/>
        </p:nvPicPr>
        <p:blipFill>
          <a:blip r:embed="rId3"/>
          <a:stretch/>
        </p:blipFill>
        <p:spPr>
          <a:xfrm>
            <a:off x="0" y="0"/>
            <a:ext cx="10693440" cy="75614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logo.png"/>
          <p:cNvPicPr/>
          <p:nvPr/>
        </p:nvPicPr>
        <p:blipFill>
          <a:blip r:embed="rId4"/>
          <a:stretch/>
        </p:blipFill>
        <p:spPr>
          <a:xfrm>
            <a:off x="9102600" y="433440"/>
            <a:ext cx="939960" cy="631800"/>
          </a:xfrm>
          <a:prstGeom prst="rect">
            <a:avLst/>
          </a:prstGeom>
          <a:ln w="0">
            <a:noFill/>
          </a:ln>
        </p:spPr>
      </p:pic>
      <p:sp>
        <p:nvSpPr>
          <p:cNvPr id="85" name="Straight Connector 11"/>
          <p:cNvSpPr/>
          <p:nvPr/>
        </p:nvSpPr>
        <p:spPr>
          <a:xfrm>
            <a:off x="846000" y="1409760"/>
            <a:ext cx="900432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7931160" y="6975360"/>
            <a:ext cx="249552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916E36-B2E0-4BDA-966C-A241A4B8D31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dt" idx="7"/>
          </p:nvPr>
        </p:nvSpPr>
        <p:spPr>
          <a:xfrm>
            <a:off x="534960" y="7008840"/>
            <a:ext cx="2495520" cy="401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78DAF-35EA-4D0F-8DB5-ACC98B599E55}" type="datetime">
              <a:rPr b="1" lang="ru-RU" sz="14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ftr" idx="8"/>
          </p:nvPr>
        </p:nvSpPr>
        <p:spPr>
          <a:xfrm>
            <a:off x="3652920" y="7008840"/>
            <a:ext cx="3387600" cy="401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Num" idx="9"/>
          </p:nvPr>
        </p:nvSpPr>
        <p:spPr>
          <a:xfrm>
            <a:off x="7662960" y="7008840"/>
            <a:ext cx="2495520" cy="401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F6CDA-EFC0-46B0-9587-D84330268373}" type="slidenum">
              <a:rPr b="1" lang="en-US" sz="14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846000" indent="-325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  <a:tab algn="l" pos="109346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303200" indent="-2602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  <a:tab algn="l" pos="1093464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3" marL="1824120" indent="-2602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  <a:tab algn="l" pos="109346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2346480" indent="-26064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  <a:tab algn="l" pos="1093464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5" marL="2346480" indent="-26064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6" marL="2346480" indent="-26064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10" descr="Cover.jpg"/>
          <p:cNvPicPr/>
          <p:nvPr/>
        </p:nvPicPr>
        <p:blipFill>
          <a:blip r:embed="rId1"/>
          <a:stretch/>
        </p:blipFill>
        <p:spPr>
          <a:xfrm>
            <a:off x="7920" y="81000"/>
            <a:ext cx="10599840" cy="69404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66400" y="1260000"/>
            <a:ext cx="5283000" cy="21812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ru-RU" sz="2800" spc="-1" strike="noStrike">
                <a:solidFill>
                  <a:srgbClr val="0070c0"/>
                </a:solidFill>
                <a:latin typeface="Arial"/>
              </a:rPr>
              <a:t>О практике оценки эффективности деятельности ТК в Российской Федер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traight Connector 11"/>
          <p:cNvSpPr/>
          <p:nvPr/>
        </p:nvSpPr>
        <p:spPr>
          <a:xfrm>
            <a:off x="2079720" y="1119240"/>
            <a:ext cx="6522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9"/>
          <p:cNvSpPr/>
          <p:nvPr/>
        </p:nvSpPr>
        <p:spPr>
          <a:xfrm>
            <a:off x="846000" y="7164360"/>
            <a:ext cx="9004320" cy="0"/>
          </a:xfrm>
          <a:prstGeom prst="line">
            <a:avLst/>
          </a:prstGeom>
          <a:ln w="6480">
            <a:solidFill>
              <a:srgbClr val="0071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2" descr="logo.png"/>
          <p:cNvPicPr/>
          <p:nvPr/>
        </p:nvPicPr>
        <p:blipFill>
          <a:blip r:embed="rId2"/>
          <a:stretch/>
        </p:blipFill>
        <p:spPr>
          <a:xfrm>
            <a:off x="376200" y="268200"/>
            <a:ext cx="939960" cy="6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Заголовок 1"/>
          <p:cNvSpPr/>
          <p:nvPr/>
        </p:nvSpPr>
        <p:spPr>
          <a:xfrm>
            <a:off x="797040" y="95400"/>
            <a:ext cx="962316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ru-RU" sz="2700" spc="-1" strike="noStrike">
                <a:solidFill>
                  <a:srgbClr val="005a9e"/>
                </a:solidFill>
                <a:latin typeface="Arial"/>
              </a:rPr>
              <a:t>О проведении оценки эффективност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ru-RU" sz="2700" spc="-1" strike="noStrike">
                <a:solidFill>
                  <a:srgbClr val="005a9e"/>
                </a:solidFill>
                <a:latin typeface="Arial"/>
              </a:rPr>
              <a:t>деятельности ТК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5"/>
          <p:cNvSpPr/>
          <p:nvPr/>
        </p:nvSpPr>
        <p:spPr>
          <a:xfrm>
            <a:off x="1096920" y="6229440"/>
            <a:ext cx="142920" cy="9349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6"/>
          <p:cNvSpPr/>
          <p:nvPr/>
        </p:nvSpPr>
        <p:spPr>
          <a:xfrm>
            <a:off x="1239840" y="6229440"/>
            <a:ext cx="8859960" cy="934920"/>
          </a:xfrm>
          <a:prstGeom prst="rect">
            <a:avLst/>
          </a:prstGeom>
          <a:solidFill>
            <a:srgbClr val="d5dd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Verdana"/>
              </a:rPr>
              <a:t>Вывод</a:t>
            </a:r>
            <a:r>
              <a:rPr b="1" lang="en-US" sz="2000" spc="-1" strike="noStrike">
                <a:solidFill>
                  <a:srgbClr val="1f497d"/>
                </a:solidFill>
                <a:latin typeface="Verdana"/>
              </a:rPr>
              <a:t>:</a:t>
            </a:r>
            <a:r>
              <a:rPr b="1" lang="ru-RU" sz="2000" spc="-1" strike="noStrike">
                <a:solidFill>
                  <a:srgbClr val="1f497d"/>
                </a:solidFill>
                <a:latin typeface="Verdana"/>
              </a:rPr>
              <a:t> Установлен рост числа ТК с высшей оценкой эффектив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61"/>
          <p:cNvGrpSpPr/>
          <p:nvPr/>
        </p:nvGrpSpPr>
        <p:grpSpPr>
          <a:xfrm>
            <a:off x="-54000" y="1547640"/>
            <a:ext cx="7058160" cy="4359960"/>
            <a:chOff x="-54000" y="1547640"/>
            <a:chExt cx="7058160" cy="4359960"/>
          </a:xfrm>
        </p:grpSpPr>
        <p:sp>
          <p:nvSpPr>
            <p:cNvPr id="137" name="Rectangle 28"/>
            <p:cNvSpPr/>
            <p:nvPr/>
          </p:nvSpPr>
          <p:spPr>
            <a:xfrm>
              <a:off x="3692520" y="4716360"/>
              <a:ext cx="358920" cy="647640"/>
            </a:xfrm>
            <a:prstGeom prst="rect">
              <a:avLst/>
            </a:prstGeom>
            <a:solidFill>
              <a:srgbClr val="d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27"/>
            <p:cNvSpPr/>
            <p:nvPr/>
          </p:nvSpPr>
          <p:spPr>
            <a:xfrm>
              <a:off x="2251080" y="4716360"/>
              <a:ext cx="358920" cy="647640"/>
            </a:xfrm>
            <a:prstGeom prst="rect">
              <a:avLst/>
            </a:prstGeom>
            <a:solidFill>
              <a:srgbClr val="d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5"/>
            <p:cNvSpPr/>
            <p:nvPr/>
          </p:nvSpPr>
          <p:spPr>
            <a:xfrm>
              <a:off x="1530360" y="5364000"/>
              <a:ext cx="4321440" cy="0"/>
            </a:xfrm>
            <a:prstGeom prst="line">
              <a:avLst/>
            </a:prstGeom>
            <a:ln w="31680">
              <a:solidFill>
                <a:srgbClr val="1f497d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6"/>
            <p:cNvSpPr/>
            <p:nvPr/>
          </p:nvSpPr>
          <p:spPr>
            <a:xfrm flipV="1">
              <a:off x="1530360" y="1692000"/>
              <a:ext cx="0" cy="3671640"/>
            </a:xfrm>
            <a:prstGeom prst="line">
              <a:avLst/>
            </a:prstGeom>
            <a:ln w="31680">
              <a:solidFill>
                <a:srgbClr val="1f497d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29"/>
            <p:cNvSpPr/>
            <p:nvPr/>
          </p:nvSpPr>
          <p:spPr>
            <a:xfrm>
              <a:off x="3692520" y="2700360"/>
              <a:ext cx="358920" cy="20160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>
              <a:off x="2251080" y="2700360"/>
              <a:ext cx="358920" cy="20160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31"/>
            <p:cNvSpPr/>
            <p:nvPr/>
          </p:nvSpPr>
          <p:spPr>
            <a:xfrm>
              <a:off x="3692520" y="2195640"/>
              <a:ext cx="358920" cy="5047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32"/>
            <p:cNvSpPr/>
            <p:nvPr/>
          </p:nvSpPr>
          <p:spPr>
            <a:xfrm>
              <a:off x="2251080" y="2411280"/>
              <a:ext cx="358920" cy="28908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1243080" y="2700360"/>
              <a:ext cx="2808360" cy="0"/>
            </a:xfrm>
            <a:prstGeom prst="line">
              <a:avLst/>
            </a:prstGeom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1243080" y="4716360"/>
              <a:ext cx="2808360" cy="0"/>
            </a:xfrm>
            <a:prstGeom prst="line">
              <a:avLst/>
            </a:prstGeom>
            <a:ln w="93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1098720" y="4500720"/>
              <a:ext cx="360360" cy="215640"/>
            </a:xfrm>
            <a:prstGeom prst="line">
              <a:avLst/>
            </a:prstGeom>
            <a:ln w="9360">
              <a:solidFill>
                <a:srgbClr val="1f49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522360" y="4500720"/>
              <a:ext cx="576360" cy="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37"/>
            <p:cNvSpPr/>
            <p:nvPr/>
          </p:nvSpPr>
          <p:spPr>
            <a:xfrm>
              <a:off x="451080" y="4140360"/>
              <a:ext cx="79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1" lang="en-US" sz="2000" spc="-1" strike="noStrike">
                  <a:solidFill>
                    <a:srgbClr val="c0504d"/>
                  </a:solidFill>
                  <a:latin typeface="Calibri"/>
                </a:rPr>
                <a:t>mi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38"/>
            <p:cNvSpPr/>
            <p:nvPr/>
          </p:nvSpPr>
          <p:spPr>
            <a:xfrm>
              <a:off x="1170000" y="2484360"/>
              <a:ext cx="360360" cy="216000"/>
            </a:xfrm>
            <a:prstGeom prst="line">
              <a:avLst/>
            </a:prstGeom>
            <a:ln w="9360">
              <a:solidFill>
                <a:srgbClr val="1f497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94000" y="2484360"/>
              <a:ext cx="576000" cy="0"/>
            </a:xfrm>
            <a:prstGeom prst="line">
              <a:avLst/>
            </a:prstGeom>
            <a:ln w="936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 Box 40"/>
            <p:cNvSpPr/>
            <p:nvPr/>
          </p:nvSpPr>
          <p:spPr>
            <a:xfrm>
              <a:off x="522360" y="2124000"/>
              <a:ext cx="79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1" lang="en-US" sz="2000" spc="-1" strike="noStrike">
                  <a:solidFill>
                    <a:srgbClr val="c0504d"/>
                  </a:solidFill>
                  <a:latin typeface="Calibri"/>
                </a:rPr>
                <a:t>ma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Text Box 42"/>
            <p:cNvSpPr/>
            <p:nvPr/>
          </p:nvSpPr>
          <p:spPr>
            <a:xfrm>
              <a:off x="4194360" y="347652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1" lang="en-US" sz="2800" spc="-1" strike="noStrike" u="sng">
                  <a:solidFill>
                    <a:srgbClr val="ffcc00"/>
                  </a:solidFill>
                  <a:uFillTx/>
                  <a:latin typeface="Calibri"/>
                </a:rPr>
                <a:t>2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 Box 44"/>
            <p:cNvSpPr/>
            <p:nvPr/>
          </p:nvSpPr>
          <p:spPr>
            <a:xfrm>
              <a:off x="2754360" y="3476520"/>
              <a:ext cx="79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1" lang="en-US" sz="2800" spc="-1" strike="noStrike" u="sng">
                  <a:solidFill>
                    <a:srgbClr val="ffcc00"/>
                  </a:solidFill>
                  <a:uFillTx/>
                  <a:latin typeface="Calibri"/>
                </a:rPr>
                <a:t>2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Text Box 45"/>
            <p:cNvSpPr/>
            <p:nvPr/>
          </p:nvSpPr>
          <p:spPr>
            <a:xfrm>
              <a:off x="4194360" y="219564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1" lang="en-US" sz="2800" spc="-1" strike="noStrike" u="sng">
                  <a:solidFill>
                    <a:srgbClr val="99cc00"/>
                  </a:solidFill>
                  <a:uFillTx/>
                  <a:latin typeface="Calibri"/>
                </a:rPr>
                <a:t>2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6"/>
            <p:cNvSpPr/>
            <p:nvPr/>
          </p:nvSpPr>
          <p:spPr>
            <a:xfrm>
              <a:off x="2754360" y="2195640"/>
              <a:ext cx="79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1" lang="en-US" sz="2800" spc="-1" strike="noStrike" u="sng">
                  <a:solidFill>
                    <a:srgbClr val="99cc00"/>
                  </a:solidFill>
                  <a:uFillTx/>
                  <a:latin typeface="Calibri"/>
                </a:rPr>
                <a:t>1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47"/>
            <p:cNvSpPr/>
            <p:nvPr/>
          </p:nvSpPr>
          <p:spPr>
            <a:xfrm>
              <a:off x="4194360" y="4844880"/>
              <a:ext cx="792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1" lang="en-US" sz="2800" spc="-1" strike="noStrike" u="sng">
                  <a:solidFill>
                    <a:srgbClr val="de0000"/>
                  </a:solidFill>
                  <a:uFillTx/>
                  <a:latin typeface="Calibri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 Box 48"/>
            <p:cNvSpPr/>
            <p:nvPr/>
          </p:nvSpPr>
          <p:spPr>
            <a:xfrm>
              <a:off x="2754360" y="4844880"/>
              <a:ext cx="79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1" lang="en-US" sz="2800" spc="-1" strike="noStrike" u="sng">
                  <a:solidFill>
                    <a:srgbClr val="de0000"/>
                  </a:solidFill>
                  <a:uFillTx/>
                  <a:latin typeface="Calibri"/>
                </a:rPr>
                <a:t>4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49"/>
            <p:cNvSpPr/>
            <p:nvPr/>
          </p:nvSpPr>
          <p:spPr>
            <a:xfrm>
              <a:off x="1962360" y="550872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1" lang="en-US" sz="2000" spc="-1" strike="noStrike">
                  <a:solidFill>
                    <a:srgbClr val="1f497d"/>
                  </a:solidFill>
                  <a:latin typeface="Calibri"/>
                </a:rPr>
                <a:t>201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50"/>
            <p:cNvSpPr/>
            <p:nvPr/>
          </p:nvSpPr>
          <p:spPr>
            <a:xfrm>
              <a:off x="4051440" y="550872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1" lang="en-US" sz="2000" spc="-1" strike="noStrike">
                  <a:solidFill>
                    <a:srgbClr val="1f497d"/>
                  </a:solidFill>
                  <a:latin typeface="Calibri"/>
                </a:rPr>
                <a:t>2016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51"/>
            <p:cNvSpPr/>
            <p:nvPr/>
          </p:nvSpPr>
          <p:spPr>
            <a:xfrm>
              <a:off x="3043440" y="5508720"/>
              <a:ext cx="100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1" lang="en-US" sz="2000" spc="-1" strike="noStrike">
                  <a:solidFill>
                    <a:srgbClr val="1f497d"/>
                  </a:solidFill>
                  <a:latin typeface="Calibri"/>
                </a:rPr>
                <a:t>201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52"/>
            <p:cNvSpPr/>
            <p:nvPr/>
          </p:nvSpPr>
          <p:spPr>
            <a:xfrm>
              <a:off x="2611440" y="5219640"/>
              <a:ext cx="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53"/>
            <p:cNvSpPr/>
            <p:nvPr/>
          </p:nvSpPr>
          <p:spPr>
            <a:xfrm>
              <a:off x="4051440" y="5219640"/>
              <a:ext cx="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54"/>
            <p:cNvSpPr/>
            <p:nvPr/>
          </p:nvSpPr>
          <p:spPr>
            <a:xfrm>
              <a:off x="1890720" y="5219640"/>
              <a:ext cx="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59"/>
            <p:cNvSpPr/>
            <p:nvPr/>
          </p:nvSpPr>
          <p:spPr>
            <a:xfrm>
              <a:off x="-54000" y="1547640"/>
              <a:ext cx="1513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751"/>
                </a:spcBef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Уровень эффективност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Text Box 60"/>
            <p:cNvSpPr/>
            <p:nvPr/>
          </p:nvSpPr>
          <p:spPr>
            <a:xfrm>
              <a:off x="5491440" y="5450040"/>
              <a:ext cx="1512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годы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7" name=""/>
          <p:cNvGraphicFramePr/>
          <p:nvPr/>
        </p:nvGraphicFramePr>
        <p:xfrm>
          <a:off x="6067440" y="1592280"/>
          <a:ext cx="4105440" cy="3774960"/>
        </p:xfrm>
        <a:graphic>
          <a:graphicData uri="http://schemas.openxmlformats.org/drawingml/2006/table">
            <a:tbl>
              <a:tblPr/>
              <a:tblGrid>
                <a:gridCol w="3024000"/>
                <a:gridCol w="576360"/>
                <a:gridCol w="50508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520560"/>
                          <a:tab algn="l" pos="1041480"/>
                          <a:tab algn="l" pos="1562040"/>
                          <a:tab algn="l" pos="2082960"/>
                          <a:tab algn="l" pos="2603520"/>
                          <a:tab algn="l" pos="3124080"/>
                          <a:tab algn="l" pos="3645000"/>
                          <a:tab algn="l" pos="4165560"/>
                          <a:tab algn="l" pos="4686480"/>
                          <a:tab algn="l" pos="5207040"/>
                          <a:tab algn="l" pos="5727600"/>
                          <a:tab algn="l" pos="6248520"/>
                          <a:tab algn="l" pos="6769080"/>
                          <a:tab algn="l" pos="7289640"/>
                          <a:tab algn="l" pos="7810560"/>
                          <a:tab algn="l" pos="8331120"/>
                          <a:tab algn="l" pos="8852040"/>
                          <a:tab algn="l" pos="9372600"/>
                          <a:tab algn="l" pos="9893160"/>
                          <a:tab algn="l" pos="10414080"/>
                        </a:tabLst>
                      </a:pPr>
                      <a:r>
                        <a:rPr b="1" lang="ru-RU" sz="1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Показ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497d"/>
                      </a:solidFill>
                    </a:lnL>
                    <a:lnR w="5760">
                      <a:solidFill>
                        <a:srgbClr val="1f497d"/>
                      </a:solidFill>
                    </a:lnR>
                    <a:lnT w="5760">
                      <a:solidFill>
                        <a:srgbClr val="1f497d"/>
                      </a:solidFill>
                    </a:lnT>
                    <a:lnB w="5760">
                      <a:solidFill>
                        <a:srgbClr val="1f497d"/>
                      </a:solidFill>
                    </a:lnB>
                    <a:solidFill>
                      <a:srgbClr val="eeece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520560"/>
                          <a:tab algn="l" pos="1041480"/>
                          <a:tab algn="l" pos="1562040"/>
                          <a:tab algn="l" pos="2082960"/>
                          <a:tab algn="l" pos="2603520"/>
                          <a:tab algn="l" pos="3124080"/>
                          <a:tab algn="l" pos="3645000"/>
                          <a:tab algn="l" pos="4165560"/>
                          <a:tab algn="l" pos="4686480"/>
                          <a:tab algn="l" pos="5207040"/>
                          <a:tab algn="l" pos="5727600"/>
                          <a:tab algn="l" pos="6248520"/>
                          <a:tab algn="l" pos="6769080"/>
                          <a:tab algn="l" pos="7289640"/>
                          <a:tab algn="l" pos="7810560"/>
                          <a:tab algn="l" pos="8331120"/>
                          <a:tab algn="l" pos="8852040"/>
                          <a:tab algn="l" pos="9372600"/>
                          <a:tab algn="l" pos="9893160"/>
                          <a:tab algn="l" pos="10414080"/>
                        </a:tabLst>
                      </a:pP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497d"/>
                      </a:solidFill>
                    </a:lnL>
                    <a:lnR w="5760">
                      <a:solidFill>
                        <a:srgbClr val="1f497d"/>
                      </a:solidFill>
                    </a:lnR>
                    <a:lnT w="5760">
                      <a:solidFill>
                        <a:srgbClr val="1f497d"/>
                      </a:solidFill>
                    </a:lnT>
                    <a:lnB w="5760">
                      <a:solidFill>
                        <a:srgbClr val="1f497d"/>
                      </a:solidFill>
                    </a:lnB>
                    <a:solidFill>
                      <a:srgbClr val="eeece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520560"/>
                          <a:tab algn="l" pos="1041480"/>
                          <a:tab algn="l" pos="1562040"/>
                          <a:tab algn="l" pos="2082960"/>
                          <a:tab algn="l" pos="2603520"/>
                          <a:tab algn="l" pos="3124080"/>
                          <a:tab algn="l" pos="3645000"/>
                          <a:tab algn="l" pos="4165560"/>
                          <a:tab algn="l" pos="4686480"/>
                          <a:tab algn="l" pos="5207040"/>
                          <a:tab algn="l" pos="5727600"/>
                          <a:tab algn="l" pos="6248520"/>
                          <a:tab algn="l" pos="6769080"/>
                          <a:tab algn="l" pos="7289640"/>
                          <a:tab algn="l" pos="7810560"/>
                          <a:tab algn="l" pos="8331120"/>
                          <a:tab algn="l" pos="8852040"/>
                          <a:tab algn="l" pos="9372600"/>
                          <a:tab algn="l" pos="9893160"/>
                          <a:tab algn="l" pos="10414080"/>
                        </a:tabLst>
                      </a:pP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ma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497d"/>
                      </a:solidFill>
                    </a:lnL>
                    <a:lnR w="5760">
                      <a:solidFill>
                        <a:srgbClr val="1f497d"/>
                      </a:solidFill>
                    </a:lnR>
                    <a:lnT w="5760">
                      <a:solidFill>
                        <a:srgbClr val="1f497d"/>
                      </a:solidFill>
                    </a:lnT>
                    <a:lnB w="5760">
                      <a:solidFill>
                        <a:srgbClr val="1f497d"/>
                      </a:solidFill>
                    </a:lnB>
                    <a:solidFill>
                      <a:srgbClr val="eeece1">
                        <a:alpha val="50000"/>
                      </a:srgbClr>
                    </a:solidFill>
                  </a:tcPr>
                </a:tc>
              </a:tr>
              <a:tr h="76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520560"/>
                          <a:tab algn="l" pos="1041480"/>
                          <a:tab algn="l" pos="1562040"/>
                          <a:tab algn="l" pos="2082960"/>
                          <a:tab algn="l" pos="2603520"/>
                          <a:tab algn="l" pos="3124080"/>
                          <a:tab algn="l" pos="3645000"/>
                          <a:tab algn="l" pos="4165560"/>
                          <a:tab algn="l" pos="4686480"/>
                          <a:tab algn="l" pos="5207040"/>
                          <a:tab algn="l" pos="5727600"/>
                          <a:tab algn="l" pos="6248520"/>
                          <a:tab algn="l" pos="6769080"/>
                          <a:tab algn="l" pos="7289640"/>
                          <a:tab algn="l" pos="7810560"/>
                          <a:tab algn="l" pos="8331120"/>
                          <a:tab algn="l" pos="8852040"/>
                          <a:tab algn="l" pos="9372600"/>
                          <a:tab algn="l" pos="9893160"/>
                          <a:tab algn="l" pos="10414080"/>
                        </a:tabLst>
                      </a:pP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400" spc="-1" strike="noStrike" baseline="-25000">
                          <a:solidFill>
                            <a:srgbClr val="1f497d"/>
                          </a:solidFill>
                          <a:latin typeface="Arial"/>
                        </a:rPr>
                        <a:t>N</a:t>
                      </a: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 – </a:t>
                      </a:r>
                      <a:r>
                        <a:rPr b="1" lang="ru-RU" sz="1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показатель деятельности ТК по национальной стандарт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497d"/>
                      </a:solidFill>
                    </a:lnL>
                    <a:lnR w="5760">
                      <a:solidFill>
                        <a:srgbClr val="1f497d"/>
                      </a:solidFill>
                    </a:lnR>
                    <a:lnT w="5760">
                      <a:solidFill>
                        <a:srgbClr val="1f497d"/>
                      </a:solidFill>
                    </a:lnT>
                    <a:lnB w="5760">
                      <a:solidFill>
                        <a:srgbClr val="1f497d"/>
                      </a:solidFill>
                    </a:lnB>
                    <a:solidFill>
                      <a:srgbClr val="eeece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520560"/>
                          <a:tab algn="l" pos="1041480"/>
                          <a:tab algn="l" pos="1562040"/>
                          <a:tab algn="l" pos="2082960"/>
                          <a:tab algn="l" pos="2603520"/>
                          <a:tab algn="l" pos="3124080"/>
                          <a:tab algn="l" pos="3645000"/>
                          <a:tab algn="l" pos="4165560"/>
                          <a:tab algn="l" pos="4686480"/>
                          <a:tab algn="l" pos="5207040"/>
                          <a:tab algn="l" pos="5727600"/>
                          <a:tab algn="l" pos="6248520"/>
                          <a:tab algn="l" pos="6769080"/>
                          <a:tab algn="l" pos="7289640"/>
                          <a:tab algn="l" pos="7810560"/>
                          <a:tab algn="l" pos="8331120"/>
                          <a:tab algn="l" pos="8852040"/>
                          <a:tab algn="l" pos="9372600"/>
                          <a:tab algn="l" pos="9893160"/>
                          <a:tab algn="l" pos="10414080"/>
                        </a:tabLst>
                      </a:pPr>
                      <a:r>
                        <a:rPr b="1" lang="ru-RU" sz="1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497d"/>
                      </a:solidFill>
                    </a:lnL>
                    <a:lnR w="5760">
                      <a:solidFill>
                        <a:srgbClr val="1f497d"/>
                      </a:solidFill>
                    </a:lnR>
                    <a:lnT w="5760">
                      <a:solidFill>
                        <a:srgbClr val="1f497d"/>
                      </a:solidFill>
                    </a:lnT>
                    <a:lnB w="5760">
                      <a:solidFill>
                        <a:srgbClr val="1f497d"/>
                      </a:solidFill>
                    </a:lnB>
                    <a:solidFill>
                      <a:srgbClr val="eeece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520560"/>
                          <a:tab algn="l" pos="1041480"/>
                          <a:tab algn="l" pos="1562040"/>
                          <a:tab algn="l" pos="2082960"/>
                          <a:tab algn="l" pos="2603520"/>
                          <a:tab algn="l" pos="3124080"/>
                          <a:tab algn="l" pos="3645000"/>
                          <a:tab algn="l" pos="4165560"/>
                          <a:tab algn="l" pos="4686480"/>
                          <a:tab algn="l" pos="5207040"/>
                          <a:tab algn="l" pos="5727600"/>
                          <a:tab algn="l" pos="6248520"/>
                          <a:tab algn="l" pos="6769080"/>
                          <a:tab algn="l" pos="7289640"/>
                          <a:tab algn="l" pos="7810560"/>
                          <a:tab algn="l" pos="8331120"/>
                          <a:tab algn="l" pos="8852040"/>
                          <a:tab algn="l" pos="9372600"/>
                          <a:tab algn="l" pos="9893160"/>
                          <a:tab algn="l" pos="10414080"/>
                        </a:tabLst>
                      </a:pPr>
                      <a:r>
                        <a:rPr b="1" lang="ru-RU" sz="1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497d"/>
                      </a:solidFill>
                    </a:lnL>
                    <a:lnR w="5760">
                      <a:solidFill>
                        <a:srgbClr val="1f497d"/>
                      </a:solidFill>
                    </a:lnR>
                    <a:lnT w="5760">
                      <a:solidFill>
                        <a:srgbClr val="1f497d"/>
                      </a:solidFill>
                    </a:lnT>
                    <a:lnB w="5760">
                      <a:solidFill>
                        <a:srgbClr val="1f497d"/>
                      </a:solidFill>
                    </a:lnB>
                    <a:solidFill>
                      <a:srgbClr val="eeece1">
                        <a:alpha val="50000"/>
                      </a:srgbClr>
                    </a:solidFill>
                  </a:tcPr>
                </a:tc>
              </a:tr>
              <a:tr h="88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520560"/>
                          <a:tab algn="l" pos="1041480"/>
                          <a:tab algn="l" pos="1562040"/>
                          <a:tab algn="l" pos="2082960"/>
                          <a:tab algn="l" pos="2603520"/>
                          <a:tab algn="l" pos="3124080"/>
                          <a:tab algn="l" pos="3645000"/>
                          <a:tab algn="l" pos="4165560"/>
                          <a:tab algn="l" pos="4686480"/>
                          <a:tab algn="l" pos="5207040"/>
                          <a:tab algn="l" pos="5727600"/>
                          <a:tab algn="l" pos="6248520"/>
                          <a:tab algn="l" pos="6769080"/>
                          <a:tab algn="l" pos="7289640"/>
                          <a:tab algn="l" pos="7810560"/>
                          <a:tab algn="l" pos="8331120"/>
                          <a:tab algn="l" pos="8852040"/>
                          <a:tab algn="l" pos="9372600"/>
                          <a:tab algn="l" pos="9893160"/>
                          <a:tab algn="l" pos="10414080"/>
                        </a:tabLst>
                      </a:pP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400" spc="-1" strike="noStrike" baseline="-25000">
                          <a:solidFill>
                            <a:srgbClr val="1f497d"/>
                          </a:solidFill>
                          <a:latin typeface="Arial"/>
                        </a:rPr>
                        <a:t>G</a:t>
                      </a: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 – </a:t>
                      </a:r>
                      <a:r>
                        <a:rPr b="1" lang="ru-RU" sz="1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показатель деятельности ТК по межгосударственной стандарт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497d"/>
                      </a:solidFill>
                    </a:lnL>
                    <a:lnR w="5760">
                      <a:solidFill>
                        <a:srgbClr val="1f497d"/>
                      </a:solidFill>
                    </a:lnR>
                    <a:lnT w="5760">
                      <a:solidFill>
                        <a:srgbClr val="1f497d"/>
                      </a:solidFill>
                    </a:lnT>
                    <a:lnB w="5760">
                      <a:solidFill>
                        <a:srgbClr val="1f497d"/>
                      </a:solidFill>
                    </a:lnB>
                    <a:solidFill>
                      <a:srgbClr val="eeece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520560"/>
                          <a:tab algn="l" pos="1041480"/>
                          <a:tab algn="l" pos="1562040"/>
                          <a:tab algn="l" pos="2082960"/>
                          <a:tab algn="l" pos="2603520"/>
                          <a:tab algn="l" pos="3124080"/>
                          <a:tab algn="l" pos="3645000"/>
                          <a:tab algn="l" pos="4165560"/>
                          <a:tab algn="l" pos="4686480"/>
                          <a:tab algn="l" pos="5207040"/>
                          <a:tab algn="l" pos="5727600"/>
                          <a:tab algn="l" pos="6248520"/>
                          <a:tab algn="l" pos="6769080"/>
                          <a:tab algn="l" pos="7289640"/>
                          <a:tab algn="l" pos="7810560"/>
                          <a:tab algn="l" pos="8331120"/>
                          <a:tab algn="l" pos="8852040"/>
                          <a:tab algn="l" pos="9372600"/>
                          <a:tab algn="l" pos="9893160"/>
                          <a:tab algn="l" pos="10414080"/>
                        </a:tabLst>
                      </a:pPr>
                      <a:r>
                        <a:rPr b="1" lang="ru-RU" sz="1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497d"/>
                      </a:solidFill>
                    </a:lnL>
                    <a:lnR w="5760">
                      <a:solidFill>
                        <a:srgbClr val="1f497d"/>
                      </a:solidFill>
                    </a:lnR>
                    <a:lnT w="5760">
                      <a:solidFill>
                        <a:srgbClr val="1f497d"/>
                      </a:solidFill>
                    </a:lnT>
                    <a:lnB w="5760">
                      <a:solidFill>
                        <a:srgbClr val="1f497d"/>
                      </a:solidFill>
                    </a:lnB>
                    <a:solidFill>
                      <a:srgbClr val="eeece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520560"/>
                          <a:tab algn="l" pos="1041480"/>
                          <a:tab algn="l" pos="1562040"/>
                          <a:tab algn="l" pos="2082960"/>
                          <a:tab algn="l" pos="2603520"/>
                          <a:tab algn="l" pos="3124080"/>
                          <a:tab algn="l" pos="3645000"/>
                          <a:tab algn="l" pos="4165560"/>
                          <a:tab algn="l" pos="4686480"/>
                          <a:tab algn="l" pos="5207040"/>
                          <a:tab algn="l" pos="5727600"/>
                          <a:tab algn="l" pos="6248520"/>
                          <a:tab algn="l" pos="6769080"/>
                          <a:tab algn="l" pos="7289640"/>
                          <a:tab algn="l" pos="7810560"/>
                          <a:tab algn="l" pos="8331120"/>
                          <a:tab algn="l" pos="8852040"/>
                          <a:tab algn="l" pos="9372600"/>
                          <a:tab algn="l" pos="9893160"/>
                          <a:tab algn="l" pos="10414080"/>
                        </a:tabLst>
                      </a:pPr>
                      <a:r>
                        <a:rPr b="1" lang="ru-RU" sz="1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497d"/>
                      </a:solidFill>
                    </a:lnL>
                    <a:lnR w="5760">
                      <a:solidFill>
                        <a:srgbClr val="1f497d"/>
                      </a:solidFill>
                    </a:lnR>
                    <a:lnT w="5760">
                      <a:solidFill>
                        <a:srgbClr val="1f497d"/>
                      </a:solidFill>
                    </a:lnT>
                    <a:lnB w="5760">
                      <a:solidFill>
                        <a:srgbClr val="1f497d"/>
                      </a:solidFill>
                    </a:lnB>
                    <a:solidFill>
                      <a:srgbClr val="eeece1">
                        <a:alpha val="50000"/>
                      </a:srgbClr>
                    </a:solidFill>
                  </a:tcPr>
                </a:tc>
              </a:tr>
              <a:tr h="88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520560"/>
                          <a:tab algn="l" pos="1041480"/>
                          <a:tab algn="l" pos="1562040"/>
                          <a:tab algn="l" pos="2082960"/>
                          <a:tab algn="l" pos="2603520"/>
                          <a:tab algn="l" pos="3124080"/>
                          <a:tab algn="l" pos="3645000"/>
                          <a:tab algn="l" pos="4165560"/>
                          <a:tab algn="l" pos="4686480"/>
                          <a:tab algn="l" pos="5207040"/>
                          <a:tab algn="l" pos="5727600"/>
                          <a:tab algn="l" pos="6248520"/>
                          <a:tab algn="l" pos="6769080"/>
                          <a:tab algn="l" pos="7289640"/>
                          <a:tab algn="l" pos="7810560"/>
                          <a:tab algn="l" pos="8331120"/>
                          <a:tab algn="l" pos="8852040"/>
                          <a:tab algn="l" pos="9372600"/>
                          <a:tab algn="l" pos="9893160"/>
                          <a:tab algn="l" pos="10414080"/>
                        </a:tabLst>
                      </a:pP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400" spc="-1" strike="noStrike" baseline="-25000">
                          <a:solidFill>
                            <a:srgbClr val="1f497d"/>
                          </a:solidFill>
                          <a:latin typeface="Arial"/>
                        </a:rPr>
                        <a:t>M</a:t>
                      </a: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 – </a:t>
                      </a:r>
                      <a:r>
                        <a:rPr b="1" lang="ru-RU" sz="1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показатель деятельности ТК по международной стандарт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497d"/>
                      </a:solidFill>
                    </a:lnL>
                    <a:lnR w="5760">
                      <a:solidFill>
                        <a:srgbClr val="1f497d"/>
                      </a:solidFill>
                    </a:lnR>
                    <a:lnT w="5760">
                      <a:solidFill>
                        <a:srgbClr val="1f497d"/>
                      </a:solidFill>
                    </a:lnT>
                    <a:lnB w="5760">
                      <a:solidFill>
                        <a:srgbClr val="1f497d"/>
                      </a:solidFill>
                    </a:lnB>
                    <a:solidFill>
                      <a:srgbClr val="eeece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520560"/>
                          <a:tab algn="l" pos="1041480"/>
                          <a:tab algn="l" pos="1562040"/>
                          <a:tab algn="l" pos="2082960"/>
                          <a:tab algn="l" pos="2603520"/>
                          <a:tab algn="l" pos="3124080"/>
                          <a:tab algn="l" pos="3645000"/>
                          <a:tab algn="l" pos="4165560"/>
                          <a:tab algn="l" pos="4686480"/>
                          <a:tab algn="l" pos="5207040"/>
                          <a:tab algn="l" pos="5727600"/>
                          <a:tab algn="l" pos="6248520"/>
                          <a:tab algn="l" pos="6769080"/>
                          <a:tab algn="l" pos="7289640"/>
                          <a:tab algn="l" pos="7810560"/>
                          <a:tab algn="l" pos="8331120"/>
                          <a:tab algn="l" pos="8852040"/>
                          <a:tab algn="l" pos="9372600"/>
                          <a:tab algn="l" pos="9893160"/>
                          <a:tab algn="l" pos="10414080"/>
                        </a:tabLst>
                      </a:pPr>
                      <a:r>
                        <a:rPr b="1" lang="ru-RU" sz="1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497d"/>
                      </a:solidFill>
                    </a:lnL>
                    <a:lnR w="5760">
                      <a:solidFill>
                        <a:srgbClr val="1f497d"/>
                      </a:solidFill>
                    </a:lnR>
                    <a:lnT w="5760">
                      <a:solidFill>
                        <a:srgbClr val="1f497d"/>
                      </a:solidFill>
                    </a:lnT>
                    <a:lnB w="5760">
                      <a:solidFill>
                        <a:srgbClr val="1f497d"/>
                      </a:solidFill>
                    </a:lnB>
                    <a:solidFill>
                      <a:srgbClr val="eeece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520560"/>
                          <a:tab algn="l" pos="1041480"/>
                          <a:tab algn="l" pos="1562040"/>
                          <a:tab algn="l" pos="2082960"/>
                          <a:tab algn="l" pos="2603520"/>
                          <a:tab algn="l" pos="3124080"/>
                          <a:tab algn="l" pos="3645000"/>
                          <a:tab algn="l" pos="4165560"/>
                          <a:tab algn="l" pos="4686480"/>
                          <a:tab algn="l" pos="5207040"/>
                          <a:tab algn="l" pos="5727600"/>
                          <a:tab algn="l" pos="6248520"/>
                          <a:tab algn="l" pos="6769080"/>
                          <a:tab algn="l" pos="7289640"/>
                          <a:tab algn="l" pos="7810560"/>
                          <a:tab algn="l" pos="8331120"/>
                          <a:tab algn="l" pos="8852040"/>
                          <a:tab algn="l" pos="9372600"/>
                          <a:tab algn="l" pos="9893160"/>
                          <a:tab algn="l" pos="10414080"/>
                        </a:tabLst>
                      </a:pPr>
                      <a:r>
                        <a:rPr b="1" lang="ru-RU" sz="1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497d"/>
                      </a:solidFill>
                    </a:lnL>
                    <a:lnR w="5760">
                      <a:solidFill>
                        <a:srgbClr val="1f497d"/>
                      </a:solidFill>
                    </a:lnR>
                    <a:lnT w="5760">
                      <a:solidFill>
                        <a:srgbClr val="1f497d"/>
                      </a:solidFill>
                    </a:lnT>
                    <a:lnB w="5760">
                      <a:solidFill>
                        <a:srgbClr val="1f497d"/>
                      </a:solidFill>
                    </a:lnB>
                    <a:solidFill>
                      <a:srgbClr val="eeece1">
                        <a:alpha val="50000"/>
                      </a:srgbClr>
                    </a:solidFill>
                  </a:tcPr>
                </a:tc>
              </a:tr>
              <a:tr h="88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520560"/>
                          <a:tab algn="l" pos="1041480"/>
                          <a:tab algn="l" pos="1562040"/>
                          <a:tab algn="l" pos="2082960"/>
                          <a:tab algn="l" pos="2603520"/>
                          <a:tab algn="l" pos="3124080"/>
                          <a:tab algn="l" pos="3645000"/>
                          <a:tab algn="l" pos="4165560"/>
                          <a:tab algn="l" pos="4686480"/>
                          <a:tab algn="l" pos="5207040"/>
                          <a:tab algn="l" pos="5727600"/>
                          <a:tab algn="l" pos="6248520"/>
                          <a:tab algn="l" pos="6769080"/>
                          <a:tab algn="l" pos="7289640"/>
                          <a:tab algn="l" pos="7810560"/>
                          <a:tab algn="l" pos="8331120"/>
                          <a:tab algn="l" pos="8852040"/>
                          <a:tab algn="l" pos="9372600"/>
                          <a:tab algn="l" pos="9893160"/>
                          <a:tab algn="l" pos="10414080"/>
                        </a:tabLst>
                      </a:pP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P</a:t>
                      </a:r>
                      <a:r>
                        <a:rPr b="1" lang="en-US" sz="1400" spc="-1" strike="noStrike" baseline="-25000">
                          <a:solidFill>
                            <a:srgbClr val="1f497d"/>
                          </a:solidFill>
                          <a:latin typeface="Arial"/>
                        </a:rPr>
                        <a:t>O</a:t>
                      </a:r>
                      <a:r>
                        <a:rPr b="1" lang="en-US" sz="1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 – </a:t>
                      </a:r>
                      <a:r>
                        <a:rPr b="1" lang="ru-RU" sz="1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показатель организованности и открытости деятельности Т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497d"/>
                      </a:solidFill>
                    </a:lnL>
                    <a:lnR w="5760">
                      <a:solidFill>
                        <a:srgbClr val="1f497d"/>
                      </a:solidFill>
                    </a:lnR>
                    <a:lnT w="5760">
                      <a:solidFill>
                        <a:srgbClr val="1f497d"/>
                      </a:solidFill>
                    </a:lnT>
                    <a:lnB w="5760">
                      <a:solidFill>
                        <a:srgbClr val="1f497d"/>
                      </a:solidFill>
                    </a:lnB>
                    <a:solidFill>
                      <a:srgbClr val="eeece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520560"/>
                          <a:tab algn="l" pos="1041480"/>
                          <a:tab algn="l" pos="1562040"/>
                          <a:tab algn="l" pos="2082960"/>
                          <a:tab algn="l" pos="2603520"/>
                          <a:tab algn="l" pos="3124080"/>
                          <a:tab algn="l" pos="3645000"/>
                          <a:tab algn="l" pos="4165560"/>
                          <a:tab algn="l" pos="4686480"/>
                          <a:tab algn="l" pos="5207040"/>
                          <a:tab algn="l" pos="5727600"/>
                          <a:tab algn="l" pos="6248520"/>
                          <a:tab algn="l" pos="6769080"/>
                          <a:tab algn="l" pos="7289640"/>
                          <a:tab algn="l" pos="7810560"/>
                          <a:tab algn="l" pos="8331120"/>
                          <a:tab algn="l" pos="8852040"/>
                          <a:tab algn="l" pos="9372600"/>
                          <a:tab algn="l" pos="9893160"/>
                          <a:tab algn="l" pos="10414080"/>
                        </a:tabLst>
                      </a:pPr>
                      <a:r>
                        <a:rPr b="1" lang="ru-RU" sz="1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497d"/>
                      </a:solidFill>
                    </a:lnL>
                    <a:lnR w="5760">
                      <a:solidFill>
                        <a:srgbClr val="1f497d"/>
                      </a:solidFill>
                    </a:lnR>
                    <a:lnT w="5760">
                      <a:solidFill>
                        <a:srgbClr val="1f497d"/>
                      </a:solidFill>
                    </a:lnT>
                    <a:lnB w="5760">
                      <a:solidFill>
                        <a:srgbClr val="1f497d"/>
                      </a:solidFill>
                    </a:lnB>
                    <a:solidFill>
                      <a:srgbClr val="eeece1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520560"/>
                          <a:tab algn="l" pos="1041480"/>
                          <a:tab algn="l" pos="1562040"/>
                          <a:tab algn="l" pos="2082960"/>
                          <a:tab algn="l" pos="2603520"/>
                          <a:tab algn="l" pos="3124080"/>
                          <a:tab algn="l" pos="3645000"/>
                          <a:tab algn="l" pos="4165560"/>
                          <a:tab algn="l" pos="4686480"/>
                          <a:tab algn="l" pos="5207040"/>
                          <a:tab algn="l" pos="5727600"/>
                          <a:tab algn="l" pos="6248520"/>
                          <a:tab algn="l" pos="6769080"/>
                          <a:tab algn="l" pos="7289640"/>
                          <a:tab algn="l" pos="7810560"/>
                          <a:tab algn="l" pos="8331120"/>
                          <a:tab algn="l" pos="8852040"/>
                          <a:tab algn="l" pos="9372600"/>
                          <a:tab algn="l" pos="9893160"/>
                          <a:tab algn="l" pos="10414080"/>
                        </a:tabLst>
                      </a:pPr>
                      <a:r>
                        <a:rPr b="1" lang="ru-RU" sz="1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f497d"/>
                      </a:solidFill>
                    </a:lnL>
                    <a:lnR w="5760">
                      <a:solidFill>
                        <a:srgbClr val="1f497d"/>
                      </a:solidFill>
                    </a:lnR>
                    <a:lnT w="5760">
                      <a:solidFill>
                        <a:srgbClr val="1f497d"/>
                      </a:solidFill>
                    </a:lnT>
                    <a:lnB w="5760">
                      <a:solidFill>
                        <a:srgbClr val="1f497d"/>
                      </a:solidFill>
                    </a:lnB>
                    <a:solidFill>
                      <a:srgbClr val="eeece1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738360" y="2052720"/>
            <a:ext cx="9504360" cy="3671640"/>
          </a:xfrm>
          <a:prstGeom prst="rect">
            <a:avLst/>
          </a:prstGeom>
          <a:solidFill>
            <a:srgbClr val="ebf2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1.</a:t>
            </a: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Актуализация </a:t>
            </a: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 (Пересмотр. Взамен ГОСТ  Р 1.1-2005.) </a:t>
            </a:r>
            <a:r>
              <a:rPr b="1" lang="ru-RU" sz="1600" spc="-1" strike="noStrike">
                <a:solidFill>
                  <a:srgbClr val="c0504d"/>
                </a:solidFill>
                <a:latin typeface="Arial"/>
              </a:rPr>
              <a:t>ГОСТ Р 1.1-2013</a:t>
            </a: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 Стандартизация в Российской Федерации. Технические комитеты по стандартизации. Правила создания и деятельн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en-US" sz="1600" spc="-1" strike="noStrike">
                <a:solidFill>
                  <a:srgbClr val="1f497d"/>
                </a:solidFill>
                <a:latin typeface="Arial"/>
              </a:rPr>
              <a:t>2</a:t>
            </a: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.</a:t>
            </a: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Актуализация</a:t>
            </a: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  (Пересмотр. Взамен ГОСТ Р 1.6-2005.) </a:t>
            </a:r>
            <a:r>
              <a:rPr b="1" lang="ru-RU" sz="1600" spc="-1" strike="noStrike">
                <a:solidFill>
                  <a:srgbClr val="c0504d"/>
                </a:solidFill>
                <a:latin typeface="Arial"/>
              </a:rPr>
              <a:t>ГОСТ Р 1.6-2013</a:t>
            </a: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Стандартизация в Российской Федерации. Проекты стандартов. Правила организации и проведения экспертиз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3. Актуализация  </a:t>
            </a:r>
            <a:r>
              <a:rPr b="1" lang="ru-RU" sz="1600" spc="-1" strike="noStrike">
                <a:solidFill>
                  <a:srgbClr val="c0504d"/>
                </a:solidFill>
                <a:latin typeface="Arial"/>
              </a:rPr>
              <a:t>ГОСТ Р 1.16-2011</a:t>
            </a: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 "Стандартизация в Российской Федерации. Стандарты национальные предварительные. Правила разработки, утверждения, применения и отмены". (Изменение N 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4. Актуализация  </a:t>
            </a:r>
            <a:r>
              <a:rPr b="1" lang="ru-RU" sz="1600" spc="-1" strike="noStrike">
                <a:solidFill>
                  <a:srgbClr val="c0504d"/>
                </a:solidFill>
                <a:latin typeface="Arial"/>
              </a:rPr>
              <a:t>ПР 50.1.008-2013</a:t>
            </a: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 Правила по стандартизации "Организация и проведение работ по международной стандартизации в Российской Федерации.«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1600" spc="-1" strike="noStrike">
                <a:solidFill>
                  <a:srgbClr val="1f497d"/>
                </a:solidFill>
                <a:latin typeface="Arial"/>
              </a:rPr>
              <a:t>5. Разработка</a:t>
            </a: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 Правил </a:t>
            </a:r>
            <a:r>
              <a:rPr b="1" lang="ru-RU" sz="1600" spc="-1" strike="noStrike">
                <a:solidFill>
                  <a:srgbClr val="c0504d"/>
                </a:solidFill>
                <a:latin typeface="Arial"/>
              </a:rPr>
              <a:t>ПР 50.1.028-2015</a:t>
            </a:r>
            <a:r>
              <a:rPr b="0" lang="ru-RU" sz="1600" spc="-1" strike="noStrike">
                <a:solidFill>
                  <a:srgbClr val="1f497d"/>
                </a:solidFill>
                <a:latin typeface="Arial"/>
              </a:rPr>
              <a:t> Правила подготовки отзывов Российской Федерацией по проектам международных стандарт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Заголовок 1"/>
          <p:cNvSpPr/>
          <p:nvPr/>
        </p:nvSpPr>
        <p:spPr>
          <a:xfrm>
            <a:off x="797040" y="95400"/>
            <a:ext cx="962316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ru-RU" sz="2700" spc="-1" strike="noStrike">
                <a:solidFill>
                  <a:srgbClr val="005a9e"/>
                </a:solidFill>
                <a:latin typeface="Verdana"/>
              </a:rPr>
              <a:t>Факторы, способствующие росту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ru-RU" sz="2700" spc="-1" strike="noStrike">
                <a:solidFill>
                  <a:srgbClr val="005a9e"/>
                </a:solidFill>
                <a:latin typeface="Verdana"/>
              </a:rPr>
              <a:t>числа эффективных ТК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522360" y="1476360"/>
            <a:ext cx="98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1. Актуализация основополагающих докуме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593640" y="2052720"/>
            <a:ext cx="144720" cy="367164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6"/>
          <p:cNvSpPr/>
          <p:nvPr/>
        </p:nvSpPr>
        <p:spPr>
          <a:xfrm>
            <a:off x="666720" y="1908000"/>
            <a:ext cx="9576000" cy="0"/>
          </a:xfrm>
          <a:prstGeom prst="line">
            <a:avLst/>
          </a:prstGeom>
          <a:ln w="3492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522360" y="5797440"/>
            <a:ext cx="98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2. Установление приоритетных направлений стандарт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9"/>
          <p:cNvSpPr/>
          <p:nvPr/>
        </p:nvSpPr>
        <p:spPr>
          <a:xfrm>
            <a:off x="666720" y="6229440"/>
            <a:ext cx="9576000" cy="0"/>
          </a:xfrm>
          <a:prstGeom prst="line">
            <a:avLst/>
          </a:prstGeom>
          <a:ln w="3492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0"/>
          <p:cNvSpPr/>
          <p:nvPr/>
        </p:nvSpPr>
        <p:spPr>
          <a:xfrm>
            <a:off x="522360" y="6296040"/>
            <a:ext cx="98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3. Введение перспективного планирования в национальной и межгосударственной стандарт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1"/>
          <p:cNvSpPr/>
          <p:nvPr/>
        </p:nvSpPr>
        <p:spPr>
          <a:xfrm>
            <a:off x="666720" y="6727680"/>
            <a:ext cx="9576000" cy="0"/>
          </a:xfrm>
          <a:prstGeom prst="line">
            <a:avLst/>
          </a:prstGeom>
          <a:ln w="3492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10"/>
          <p:cNvSpPr/>
          <p:nvPr/>
        </p:nvSpPr>
        <p:spPr>
          <a:xfrm>
            <a:off x="449280" y="2987640"/>
            <a:ext cx="3744720" cy="2592360"/>
          </a:xfrm>
          <a:prstGeom prst="rect">
            <a:avLst/>
          </a:prstGeom>
          <a:solidFill>
            <a:srgbClr val="4f81bd"/>
          </a:solidFill>
          <a:ln w="316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1384200" y="3102120"/>
            <a:ext cx="259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исло сай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Заголовок 1"/>
          <p:cNvSpPr/>
          <p:nvPr/>
        </p:nvSpPr>
        <p:spPr>
          <a:xfrm>
            <a:off x="797040" y="95400"/>
            <a:ext cx="962316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ru-RU" sz="2700" spc="-1" strike="noStrike">
                <a:solidFill>
                  <a:srgbClr val="005a9e"/>
                </a:solidFill>
                <a:latin typeface="Verdana"/>
              </a:rPr>
              <a:t>Влияние результатов оценк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ru-RU" sz="2700" spc="-1" strike="noStrike">
                <a:solidFill>
                  <a:srgbClr val="005a9e"/>
                </a:solidFill>
                <a:latin typeface="Verdana"/>
              </a:rPr>
              <a:t>Эффективности на деятельность ТК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3"/>
          <p:cNvSpPr/>
          <p:nvPr/>
        </p:nvSpPr>
        <p:spPr>
          <a:xfrm rot="16200000">
            <a:off x="-199080" y="3925080"/>
            <a:ext cx="2448000" cy="718920"/>
          </a:xfrm>
          <a:prstGeom prst="rightArrow">
            <a:avLst>
              <a:gd name="adj1" fmla="val 48787"/>
              <a:gd name="adj2" fmla="val 945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4400" spc="-1" strike="noStrike">
                <a:solidFill>
                  <a:srgbClr val="4f81bd"/>
                </a:solidFill>
                <a:latin typeface="Arial"/>
              </a:rPr>
              <a:t>70 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450720" y="5869080"/>
            <a:ext cx="9793440" cy="10080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озданы новые МТК на базе секретариатов российских ТК. (Нанотехнологии, стальные и чугунные трубы и баллоны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1"/>
          <p:cNvSpPr/>
          <p:nvPr/>
        </p:nvSpPr>
        <p:spPr>
          <a:xfrm>
            <a:off x="6499080" y="2987640"/>
            <a:ext cx="3745080" cy="2592360"/>
          </a:xfrm>
          <a:prstGeom prst="rect">
            <a:avLst/>
          </a:prstGeom>
          <a:solidFill>
            <a:srgbClr val="4f81bd"/>
          </a:solidFill>
          <a:ln w="316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7435800" y="3081240"/>
            <a:ext cx="287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Числ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экспертов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ждународ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(региональных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рганах п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тандарт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13"/>
          <p:cNvSpPr/>
          <p:nvPr/>
        </p:nvSpPr>
        <p:spPr>
          <a:xfrm rot="16200000">
            <a:off x="5851440" y="3924360"/>
            <a:ext cx="2448000" cy="720720"/>
          </a:xfrm>
          <a:prstGeom prst="rightArrow">
            <a:avLst>
              <a:gd name="adj1" fmla="val 48704"/>
              <a:gd name="adj2" fmla="val 87242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4400" spc="-1" strike="noStrike">
                <a:solidFill>
                  <a:srgbClr val="4f81bd"/>
                </a:solidFill>
                <a:latin typeface="Arial"/>
              </a:rPr>
              <a:t>100 Э/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4"/>
          <p:cNvSpPr/>
          <p:nvPr/>
        </p:nvSpPr>
        <p:spPr>
          <a:xfrm>
            <a:off x="3544920" y="1547640"/>
            <a:ext cx="3529080" cy="792360"/>
          </a:xfrm>
          <a:prstGeom prst="rect">
            <a:avLst/>
          </a:prstGeom>
          <a:solidFill>
            <a:srgbClr val="4f81bd"/>
          </a:solidFill>
          <a:ln w="3168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Увеличило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AutoShape 16"/>
          <p:cNvCxnSpPr>
            <a:stCxn id="185" idx="3"/>
            <a:endCxn id="182" idx="0"/>
          </p:cNvCxnSpPr>
          <p:nvPr/>
        </p:nvCxnSpPr>
        <p:spPr>
          <a:xfrm>
            <a:off x="7089480" y="1944360"/>
            <a:ext cx="1283400" cy="1027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87" name="AutoShape 17"/>
          <p:cNvCxnSpPr>
            <a:stCxn id="185" idx="1"/>
            <a:endCxn id="177" idx="0"/>
          </p:cNvCxnSpPr>
          <p:nvPr/>
        </p:nvCxnSpPr>
        <p:spPr>
          <a:xfrm flipV="1" rot="10800000">
            <a:off x="2322360" y="1943640"/>
            <a:ext cx="1207080" cy="102780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Заголовок 1"/>
          <p:cNvSpPr/>
          <p:nvPr/>
        </p:nvSpPr>
        <p:spPr>
          <a:xfrm>
            <a:off x="797040" y="95400"/>
            <a:ext cx="962316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20560"/>
                <a:tab algn="l" pos="1041480"/>
                <a:tab algn="l" pos="1562040"/>
                <a:tab algn="l" pos="2082960"/>
                <a:tab algn="l" pos="2603520"/>
                <a:tab algn="l" pos="3124080"/>
                <a:tab algn="l" pos="3645000"/>
                <a:tab algn="l" pos="4165560"/>
                <a:tab algn="l" pos="4686480"/>
                <a:tab algn="l" pos="5207040"/>
                <a:tab algn="l" pos="5727600"/>
                <a:tab algn="l" pos="6248520"/>
                <a:tab algn="l" pos="6769080"/>
                <a:tab algn="l" pos="7289640"/>
                <a:tab algn="l" pos="7810560"/>
                <a:tab algn="l" pos="8331120"/>
                <a:tab algn="l" pos="8852040"/>
                <a:tab algn="l" pos="9372600"/>
                <a:tab algn="l" pos="9893160"/>
                <a:tab algn="l" pos="10414080"/>
              </a:tabLst>
            </a:pPr>
            <a:r>
              <a:rPr b="1" lang="ru-RU" sz="2700" spc="-1" strike="noStrike">
                <a:solidFill>
                  <a:srgbClr val="005a9e"/>
                </a:solidFill>
                <a:latin typeface="Verdana"/>
              </a:rPr>
              <a:t>Новые условия деятельности МТК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5"/>
          <p:cNvSpPr/>
          <p:nvPr/>
        </p:nvSpPr>
        <p:spPr>
          <a:xfrm rot="5400000">
            <a:off x="5184720" y="3112920"/>
            <a:ext cx="503280" cy="541440"/>
          </a:xfrm>
          <a:prstGeom prst="rightArrow">
            <a:avLst>
              <a:gd name="adj1" fmla="val 48593"/>
              <a:gd name="adj2" fmla="val 63361"/>
            </a:avLst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6"/>
          <p:cNvSpPr/>
          <p:nvPr/>
        </p:nvSpPr>
        <p:spPr>
          <a:xfrm>
            <a:off x="1314360" y="3805200"/>
            <a:ext cx="9145800" cy="839880"/>
          </a:xfrm>
          <a:prstGeom prst="rect">
            <a:avLst/>
          </a:prstGeom>
          <a:noFill/>
          <a:ln w="223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000" spc="-1" strike="noStrike">
                <a:solidFill>
                  <a:srgbClr val="c0504d"/>
                </a:solidFill>
                <a:latin typeface="Arial"/>
              </a:rPr>
              <a:t>Необходимо разработать методику оценки эффективности деятельности МТ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9"/>
          <p:cNvSpPr/>
          <p:nvPr/>
        </p:nvSpPr>
        <p:spPr>
          <a:xfrm>
            <a:off x="1314360" y="5221440"/>
            <a:ext cx="9145800" cy="1800000"/>
          </a:xfrm>
          <a:prstGeom prst="rect">
            <a:avLst/>
          </a:prstGeom>
          <a:noFill/>
          <a:ln w="2232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Повышение роли МТК в планировании, разработке, экспертизе межгосударственных стандар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000" spc="-1" strike="noStrike">
                <a:solidFill>
                  <a:srgbClr val="1f497d"/>
                </a:solidFill>
                <a:latin typeface="Arial"/>
              </a:rPr>
              <a:t>Закрепление секретариатов МТК и фонда соответствующих межгосударственных стандартов за секретариатами национальных технических комите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1312920" y="478944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400" spc="-1" strike="noStrike">
                <a:solidFill>
                  <a:srgbClr val="c0504d"/>
                </a:solidFill>
                <a:latin typeface="Arial"/>
              </a:rPr>
              <a:t>Ожидаемый результат</a:t>
            </a:r>
            <a:r>
              <a:rPr b="1" lang="en-US" sz="2400" spc="-1" strike="noStrike">
                <a:solidFill>
                  <a:srgbClr val="c0504d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1"/>
          <p:cNvSpPr/>
          <p:nvPr/>
        </p:nvSpPr>
        <p:spPr>
          <a:xfrm>
            <a:off x="1243080" y="33480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Arial"/>
              </a:rPr>
              <a:t>Задача</a:t>
            </a:r>
            <a:r>
              <a:rPr b="1" lang="en-US" sz="2400" spc="-1" strike="noStrike">
                <a:solidFill>
                  <a:srgbClr val="1f497d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Group 20"/>
          <p:cNvGrpSpPr/>
          <p:nvPr/>
        </p:nvGrpSpPr>
        <p:grpSpPr>
          <a:xfrm>
            <a:off x="163440" y="1547640"/>
            <a:ext cx="10296720" cy="1441800"/>
            <a:chOff x="163440" y="1547640"/>
            <a:chExt cx="10296720" cy="1441800"/>
          </a:xfrm>
        </p:grpSpPr>
        <p:sp>
          <p:nvSpPr>
            <p:cNvPr id="195" name="Rectangle 12"/>
            <p:cNvSpPr/>
            <p:nvPr/>
          </p:nvSpPr>
          <p:spPr>
            <a:xfrm>
              <a:off x="163440" y="1547640"/>
              <a:ext cx="142920" cy="1441800"/>
            </a:xfrm>
            <a:prstGeom prst="rect">
              <a:avLst/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13"/>
            <p:cNvSpPr/>
            <p:nvPr/>
          </p:nvSpPr>
          <p:spPr>
            <a:xfrm>
              <a:off x="306360" y="1547640"/>
              <a:ext cx="10153800" cy="1441800"/>
            </a:xfrm>
            <a:prstGeom prst="rect">
              <a:avLst/>
            </a:prstGeom>
            <a:solidFill>
              <a:srgbClr val="d5dd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1375"/>
                </a:spcBef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1" lang="ru-RU" sz="2200" spc="-1" strike="noStrike">
                  <a:solidFill>
                    <a:srgbClr val="1f497d"/>
                  </a:solidFill>
                  <a:latin typeface="Arial"/>
                </a:rPr>
                <a:t>1. Новое национальное законодательство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375"/>
                </a:spcBef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1" lang="ru-RU" sz="2200" spc="-1" strike="noStrike">
                  <a:solidFill>
                    <a:srgbClr val="1f497d"/>
                  </a:solidFill>
                  <a:latin typeface="Arial"/>
                </a:rPr>
                <a:t>2. Актуализация межгосударственных основополагающих стандартов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375"/>
                </a:spcBef>
                <a:tabLst>
                  <a:tab algn="l" pos="0"/>
                  <a:tab algn="l" pos="995400"/>
                  <a:tab algn="l" pos="1990800"/>
                  <a:tab algn="l" pos="2986200"/>
                  <a:tab algn="l" pos="3981600"/>
                  <a:tab algn="l" pos="4976640"/>
                  <a:tab algn="l" pos="5972040"/>
                  <a:tab algn="l" pos="6967440"/>
                  <a:tab algn="l" pos="7962840"/>
                  <a:tab algn="l" pos="8958240"/>
                  <a:tab algn="l" pos="9953640"/>
                  <a:tab algn="l" pos="10949040"/>
                </a:tabLst>
              </a:pPr>
              <a:r>
                <a:rPr b="1" lang="ru-RU" sz="2200" spc="-1" strike="noStrike">
                  <a:solidFill>
                    <a:srgbClr val="1f497d"/>
                  </a:solidFill>
                  <a:latin typeface="Arial"/>
                </a:rPr>
                <a:t>3. Разработка информационной системы ФГИС МГС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Text Box 14"/>
          <p:cNvSpPr/>
          <p:nvPr/>
        </p:nvSpPr>
        <p:spPr>
          <a:xfrm>
            <a:off x="450720" y="3421080"/>
            <a:ext cx="289080" cy="15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939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ru-RU" sz="9500" spc="-1" strike="noStrike">
                <a:solidFill>
                  <a:srgbClr val="c0504d"/>
                </a:solidFill>
                <a:latin typeface="Arial"/>
              </a:rPr>
              <a:t>!</a:t>
            </a:r>
            <a:endParaRPr b="0" lang="en-US" sz="9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5"/>
          <p:cNvSpPr/>
          <p:nvPr/>
        </p:nvSpPr>
        <p:spPr>
          <a:xfrm>
            <a:off x="90360" y="5364000"/>
            <a:ext cx="129564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r>
              <a:rPr b="0" lang="ru-RU" sz="10000" spc="-1" strike="noStrike">
                <a:solidFill>
                  <a:srgbClr val="1f497d"/>
                </a:solidFill>
                <a:latin typeface="Wingdings"/>
                <a:ea typeface="Wingdings"/>
              </a:rPr>
              <a:t>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8"/>
          <p:cNvSpPr/>
          <p:nvPr/>
        </p:nvSpPr>
        <p:spPr>
          <a:xfrm>
            <a:off x="162000" y="3805200"/>
            <a:ext cx="1081080" cy="844560"/>
          </a:xfrm>
          <a:prstGeom prst="rect">
            <a:avLst/>
          </a:prstGeom>
          <a:noFill/>
          <a:ln w="2232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19"/>
          <p:cNvSpPr/>
          <p:nvPr/>
        </p:nvSpPr>
        <p:spPr>
          <a:xfrm>
            <a:off x="162000" y="5221440"/>
            <a:ext cx="1081080" cy="1800000"/>
          </a:xfrm>
          <a:prstGeom prst="rect">
            <a:avLst/>
          </a:prstGeom>
          <a:noFill/>
          <a:ln w="2232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95400"/>
                <a:tab algn="l" pos="1990800"/>
                <a:tab algn="l" pos="2986200"/>
                <a:tab algn="l" pos="3981600"/>
                <a:tab algn="l" pos="4976640"/>
                <a:tab algn="l" pos="5972040"/>
                <a:tab algn="l" pos="6967440"/>
                <a:tab algn="l" pos="7962840"/>
                <a:tab algn="l" pos="8958240"/>
                <a:tab algn="l" pos="9953640"/>
                <a:tab algn="l" pos="109490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1T11:32:45Z</dcterms:created>
  <dc:creator>UstinovaES</dc:creator>
  <dc:description/>
  <dc:language>en-US</dc:language>
  <cp:lastModifiedBy>Мария Е. Смирнова</cp:lastModifiedBy>
  <cp:lastPrinted>2018-03-26T06:28:39Z</cp:lastPrinted>
  <dcterms:modified xsi:type="dcterms:W3CDTF">2018-04-06T13:13:32Z</dcterms:modified>
  <cp:revision>75</cp:revision>
  <dc:subject/>
  <dc:title>Слайд 1</dc:title>
</cp:coreProperties>
</file>